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8C8-DE04-4D85-87D3-D2668074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6687-0D4D-4579-AD2C-852C7A37E43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 idea of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what type of system we liv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examples from students about the animals and plants around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19F-FE36-4207-941F-B611773E507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F6BB-D919-402B-9AD4-E55E08B230D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947-69E5-4BC5-92DB-C077C614792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EDDB-88AC-40DE-8B6A-E0659ABD9C6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DC8-C859-4C52-8E44-9E1083B2843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A74-FEAC-491B-BF09-F4D8BB5CC68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5F8-F69B-4795-B140-2F7BF2D6E7B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B80-A5CE-4E30-AFBF-439862FAD90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C091-7A91-4BC6-ACF1-784904C4329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AA96-D815-4BE4-8BF7-FE9713EE15F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A3B-025B-4A93-999C-806ACF008E6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4D5-D5E9-4843-9EB8-151AEDBB0CE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DDAC-9FB4-4825-A19E-ECD0D8D42C0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5F5-C156-4510-9BA2-96696A2CB4E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195-D4FD-401B-9B2A-B2FA545223B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666-0D00-42A1-9491-B9E4324624F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E186-4147-4792-947C-5EE059D4303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4F3-530A-4A33-B04C-7535307B789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1C7-B0CF-4CB0-80F5-8BB1B41D6BD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933-4980-4CF0-93D8-486CF0D2E5A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A7A0-A7C0-4A86-9C1D-4EAAF69C399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DA6-2F04-47B3-8559-8868BE17143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061-D4DA-4C02-851B-4CEBD99B76D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75E3-75B4-4C78-8576-BD5C088C0B8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282B-D178-421F-9CAF-8870800238E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033F-699B-49D1-A973-0D1455FAA81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77D-D80B-46DD-A73D-95A2703F267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819-8799-4F6D-B901-B314E08E99D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04E-4C92-49F6-B8B4-83D52CD1FE6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C84-2B43-4653-B8BD-AD6EEB19270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1377-0E5D-47E2-92D4-ABE74EFD25A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736-39DB-4D26-8C44-DDBCCE68189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424-E93E-472D-BAFB-B5E308F50A4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8FC7-C47B-4DAA-AD98-FE4E612CF2F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6DF-5895-44B1-81BB-2B984BBA5DF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E790-9849-4374-9B69-BBDA616DC58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D56-0116-49DC-8E57-A876C77758F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3BC-6A86-4CC2-868A-2A8B1465039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A96-9093-4922-9564-CFF1A53AA22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EA13-95F1-412D-A26C-13271830901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AA8D-9F67-4EB9-AA39-35791FB0012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836-2802-46B4-A9C3-2EF1BD72489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2CD-A5AB-480C-AE6E-F3C06F1D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B2D-BD5E-4C43-8B36-3703EB2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142-2918-4A87-8E5A-73EB0F96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A69-4782-4139-9367-8BAF64EE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162-FF7F-41DE-8DF2-FE33670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C04-C979-4153-B269-BBE3ACF1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3D30-8D60-4DE9-9DC9-185E668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872E-27F6-439B-BD96-53F9199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7176-1C1A-45A2-8111-47EFE11A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2EE4-427B-48E4-9E3A-18AFD9A1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7716-BFBE-4F1E-A1F4-5E61265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E77-9D9A-422B-B05B-C784B2FD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1F4E-E227-483F-969E-B9637299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EFF-7006-4E7B-A99F-8E01CEE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2BDB-FCF5-4C72-B411-179B8E2F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AB7E-D69C-4345-A3CB-06530889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B250-058C-4AE0-AEF3-81855E5F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317-BC14-4A34-8E86-D48198F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F6C-6023-46BD-BC7D-2ED8C649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31F-64C9-4DDA-A7D8-7AF0725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F46-B88C-4FE5-A28B-5393CA8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F6B-4AF2-419D-9F58-9E35D07A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7E2-099A-449B-8260-D1073B94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213-DFF0-4813-B677-1D2D83E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E025-467E-4F0F-B41A-9F3848124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5C8F-AD91-4BD1-9F39-429930AADC1A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Ecolog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the study of ecosystem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Marine (Salt Wat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Oceans &amp; Estuari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ypes of Organisms:  Kelp, Whales, Dolphins, Sharks, Tuna, Crabs, Shrimp, Lobsters, Salmon, Eels, Plankt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Zone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there is the presence of light from the sun (plants can grow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no light from the sun is present (very few organisms live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4038480" y="5943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Marine</a:t>
            </a: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</p:txBody>
      </p:sp>
      <p:pic>
        <p:nvPicPr>
          <p:cNvPr id="122" name="Aquatic__Marine_Biomes.mov" descr="/Network/Servers/xserve.aloysius.lan/Volumes/Data/Homes/Faculty/dfogel/Documents/All Clases/Streaming Videos/Ecology/Biomes/Aquatic__Marine_Biomes.mov"/>
          <p:cNvPicPr/>
          <p:nvPr/>
        </p:nvPicPr>
        <p:blipFill>
          <a:blip r:embed="rId1"/>
          <a:stretch/>
        </p:blipFill>
        <p:spPr>
          <a:xfrm>
            <a:off x="2133720" y="1905120"/>
            <a:ext cx="5181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6642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Wetlands, Rivers, Streams, Ponds, Lakes, &amp; Creek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ypes of Organisms:  Algae, Muskrats, Ducks, Geese, Fish, Pike, Carp, Bass, &amp; Catfis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/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6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Fresh Wa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Aquatic__Fresh_Water_Biomes.mov" descr="/Network/Servers/xserve.aloysius.lan/Volumes/Data/Homes/Faculty/dfogel/Documents/All Clases/Streaming Videos/Ecology/Biomes/Aquatic__Fresh_Water_Biomes.mov"/>
          <p:cNvPicPr/>
          <p:nvPr/>
        </p:nvPicPr>
        <p:blipFill>
          <a:blip r:embed="rId1"/>
          <a:stretch/>
        </p:blipFill>
        <p:spPr>
          <a:xfrm>
            <a:off x="1981080" y="19051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425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Estuary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shallow area where salt water and fresh water mix </a:t>
            </a:r>
            <a:r>
              <a:rPr b="0" i="1" lang="en-US" sz="2400" spc="-1" strike="noStrike">
                <a:solidFill>
                  <a:srgbClr val="212164"/>
                </a:solidFill>
                <a:latin typeface="Tahoma"/>
              </a:rPr>
              <a:t>(where a river or stream meets the ocean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Wetland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area where fresh water, salt water, and land mix (marshes, swamps, and bog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northern North America, northern Europe, northern As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limate:  Cold, ground stays covered in snow, permafrost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permanent frozen layer of ground, scarce rainfall, very short summ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mosses, lichens, small plants that do need a lot of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caribou, migrating birds (come for the short summ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85840" y="579096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6" name="Tundra.mov" descr="/Network/Servers/xserve.aloysius.lan/Volumes/Data/Homes/Faculty/dfogel/Documents/All Clases/Streaming Videos/Ecology/Biomes/Tundra.mov"/>
          <p:cNvPicPr/>
          <p:nvPr/>
        </p:nvPicPr>
        <p:blipFill>
          <a:blip r:embed="rId1"/>
          <a:stretch/>
        </p:blipFill>
        <p:spPr>
          <a:xfrm>
            <a:off x="1981080" y="190512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2722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near the Equator, Africa, &amp;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and Humid, rains everyda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Jungle (think Tarzan), very tall trees, thick vegetation on the ground, dense canop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parrots, Apes, Toucans, Monkeys, Leopards, other predatory Cats, Snak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Ecology is the study of organisms and their interaction with the environ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 organism is any living t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xamples:  Humans, animals, plant, bacter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5790960"/>
            <a:ext cx="446076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emperate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3" name="Temperate_Rain_Forest.mov" descr="/Network/Servers/xserve.aloysius.lan/Volumes/Data/Homes/Faculty/dfogel/Documents/All Clases/Streaming Videos/Ecology/Biomes/Temperate_Rain_Forest.mov"/>
          <p:cNvPicPr/>
          <p:nvPr/>
        </p:nvPicPr>
        <p:blipFill>
          <a:blip r:embed="rId1"/>
          <a:stretch/>
        </p:blipFill>
        <p:spPr>
          <a:xfrm>
            <a:off x="1981080" y="16765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1525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4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Canada, Washington (State), Russia, Chin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cold Winters, short Summers, frequent Rai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Evergreens (think Christmas Trees), Pines, Spruces, Cedars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Moose, Bear, Lynx, Hibernating Animals, Migrating Animal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eastern United States (think about where we live), most of Europe, Australi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Summers, cold Winters, Rainfall throughout the yea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Trees that lose their leaves, Maples, Oaks, Hickories, Sycamores, Willow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Bears, Foxes, Raccoons, Deer, Squirrels, Bir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24080" y="5790960"/>
            <a:ext cx="327672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4" name="Temperate_Deciduous_Forest.mov" descr="/Network/Servers/xserve.aloysius.lan/Volumes/Data/Homes/Faculty/dfogel/Documents/All Clases/Streaming Videos/Ecology/Biomes/Temperate_Deciduous_Forest.mov"/>
          <p:cNvPicPr/>
          <p:nvPr/>
        </p:nvPicPr>
        <p:blipFill>
          <a:blip r:embed="rId1"/>
          <a:stretch/>
        </p:blipFill>
        <p:spPr>
          <a:xfrm>
            <a:off x="2209680" y="190656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9945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Africa (think Scorpion King or the Mummy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, can snow at night, sparse Rainfal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Succulent Plants (retain water in the leaves), Cacti, and small Shrub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Lizards, Snakes, small Rodents, other Roden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760" y="5790960"/>
            <a:ext cx="1447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1" name="Desert.mov" descr="/Network/Servers/xserve.aloysius.lan/Volumes/Data/Homes/Faculty/dfogel/Documents/All Clases/Streaming Videos/Ecology/Biomes/Desert.mov"/>
          <p:cNvPicPr/>
          <p:nvPr/>
        </p:nvPicPr>
        <p:blipFill>
          <a:blip r:embed="rId1"/>
          <a:stretch/>
        </p:blipFill>
        <p:spPr>
          <a:xfrm>
            <a:off x="2133720" y="1981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2702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Midwest United States (think Little House on the Prairie), Africa (think the Lion King), Asia,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dry periods with occasional fi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Biosphe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he biosphere is the living worl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ncludes any organisms that are found in the air, on land, or in the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several species of Grasses, scattered Trees, and Wildflow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burrow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Rabbits, Moles, &amp; Rodents, graz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Buffalo, Zebras, and Giraffes, Lions, and Hyen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8" name="Grassland.asx" descr=""/>
          <p:cNvPicPr/>
          <p:nvPr/>
        </p:nvPicPr>
        <p:blipFill>
          <a:blip r:embed="rId1"/>
          <a:stretch/>
        </p:blipFill>
        <p:spPr>
          <a:xfrm>
            <a:off x="1627200" y="1981080"/>
            <a:ext cx="56926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haparr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1" name="Chap.asx" descr=""/>
          <p:cNvPicPr/>
          <p:nvPr/>
        </p:nvPicPr>
        <p:blipFill>
          <a:blip r:embed="rId1"/>
          <a:stretch/>
        </p:blipFill>
        <p:spPr>
          <a:xfrm>
            <a:off x="1862280" y="2048040"/>
            <a:ext cx="5378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aig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4" name="Taiga.asx" descr=""/>
          <p:cNvPicPr/>
          <p:nvPr/>
        </p:nvPicPr>
        <p:blipFill>
          <a:blip r:embed="rId1"/>
          <a:stretch/>
        </p:blipFill>
        <p:spPr>
          <a:xfrm>
            <a:off x="1627200" y="1981080"/>
            <a:ext cx="565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 Re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7" name="Biome Review.asx" descr=""/>
          <p:cNvPicPr/>
          <p:nvPr/>
        </p:nvPicPr>
        <p:blipFill>
          <a:blip r:embed="rId1"/>
          <a:stretch/>
        </p:blipFill>
        <p:spPr>
          <a:xfrm>
            <a:off x="1236600" y="1981080"/>
            <a:ext cx="64357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Chapter 21, Part 2 Not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Tahoma"/>
              </a:rPr>
              <a:t>Relationships Among Living Th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organize living things into groups to make it easier to study ecosyst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a group of the same type of organisms living in the same pla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of the populations that live in an area make up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want to know 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 population, where its members live, and how it is able to stay ali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determin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by comparing the size of a population with its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u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to study populations of animals that travel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pulations do not have enough resources to grow larger and larger forev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gs that limit the size of a population are called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ing factor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miting factors includ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ving sp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and othe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ost common interactions in a community ar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eeding interaction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sms will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any resources that i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ed suppl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gre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population 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n an area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greater t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Ecosyste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self supporting area composed of living and nonliving things such as the Rain Forest or the 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produces energy, transfers energy, decomposes, and recycl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made up of two (2) types of factor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iotic and Abiotic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the act of one organism feeding on an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of prey, such as a falcon, is an example of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field mouse is an example of a flacon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- the organism it ea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African tickbird eats insects off an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,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oth organisms benefit. 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Symbiotic or</a:t>
            </a:r>
            <a:r>
              <a:rPr b="1" lang="en-US" sz="2800" spc="-1" strike="noStrike">
                <a:solidFill>
                  <a:srgbClr val="87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mutual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971800" cy="186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038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sects biting a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harm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zebra, but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enefit themselves. 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parasit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that builds its nest in a tree benefits but the tree i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rm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type of organism has a different role to play in an eco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ol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n organism in an ecosystem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ic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where an organism lives out its life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bita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re non living parts of the environment such as rocks, the sun, and temp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3" name="Picture 4" descr="0254-river-rocks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he living parts of the environment such as plants, bacteria, and animal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8" descr="black_lab1"/>
          <p:cNvPicPr/>
          <p:nvPr/>
        </p:nvPicPr>
        <p:blipFill>
          <a:blip r:embed="rId1"/>
          <a:stretch/>
        </p:blipFill>
        <p:spPr>
          <a:xfrm>
            <a:off x="4495680" y="4043520"/>
            <a:ext cx="4334040" cy="28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040525-pintails_800"/>
          <p:cNvPicPr/>
          <p:nvPr/>
        </p:nvPicPr>
        <p:blipFill>
          <a:blip r:embed="rId2"/>
          <a:stretch/>
        </p:blipFill>
        <p:spPr>
          <a:xfrm>
            <a:off x="533520" y="2590920"/>
            <a:ext cx="38145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ommunit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Is composed of all of the populations of different organisms living together in a given are such as your lawn (contains grass, insects, and worms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 population is a group of organisms that belong to the same species &amp; live in a given area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Ex:  heard of cattle of a gaggle of gees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Biom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major type of ecosystem with its own temperature ranges, rainfall amounts, and types of organism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4" descr="rainforest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esert-scrub-australia-web"/>
          <p:cNvPicPr/>
          <p:nvPr/>
        </p:nvPicPr>
        <p:blipFill>
          <a:blip r:embed="rId2"/>
          <a:stretch/>
        </p:blipFill>
        <p:spPr>
          <a:xfrm>
            <a:off x="4876920" y="381312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St. Aloysius</cp:lastModifiedBy>
  <dcterms:modified xsi:type="dcterms:W3CDTF">2013-05-10T17:57:36Z</dcterms:modified>
  <cp:revision>55</cp:revision>
  <dc:subject/>
  <dc:title>Slide 1</dc:title>
</cp:coreProperties>
</file>